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5B1-9767-4EC2-B5E2-5271D0A3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1B9-083A-49E0-8635-2FD03085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C70-52C0-4A09-919F-62D77B5D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153-7C2D-4C98-8EDB-FB795DAA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CCC-59D4-4773-9C10-D681EEDB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0E2-A82D-4217-9928-5D26FE99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E1C-9B70-4D80-B8EF-EC7C4021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3ED-F8EC-4A39-BE53-D2DCE33C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999-79D9-4D9F-9A51-E0CE1233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61E-97C4-4606-B691-DBD7C8CB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925-E9BC-4BD5-A3F6-AB09E3FE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6C3-8EA4-450C-88BF-FF803B2C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0353-9809-48FD-93EF-AC589A46F9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n Accord  23.jpg"/>
          <p:cNvPicPr/>
          <p:nvPr/>
        </p:nvPicPr>
        <p:blipFill>
          <a:blip r:embed="rId9">
            <a:lum bright="40000"/>
          </a:blip>
          <a:stretch/>
        </p:blipFill>
        <p:spPr>
          <a:xfrm>
            <a:off x="3440160" y="2060640"/>
            <a:ext cx="12891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6-03T18:34:00Z</dcterms:modified>
  <cp:revision>115</cp:revision>
  <dc:subject/>
  <dc:title>Slide 1</dc:title>
</cp:coreProperties>
</file>